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4725-99E7-4C05-9933-10DBCC755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FBAA-C8C7-4348-848C-8CCCDE85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25D0-A77B-49DB-AE94-13A47678E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0759-4CC3-4E32-8901-CE4CF2BDA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9BBAEA-EEEF-4E16-805A-154EA1156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B2988F-247B-4BD3-9E61-9D8019CE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B29B0A-7538-46D1-A80E-2CFCC45E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B38DC0-D4C1-4AB7-9A01-87414E2D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A9679-4D54-44BD-A4D2-2B9EB96F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7B220-AAC1-4351-A7BC-697F18D3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7DD2AD-A320-43D5-9FA0-4D0BD0C8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787A-E275-401E-98A3-1133DDBC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16143-0BC1-45F1-9A9B-9FDD902A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79D53-E016-4603-8A2A-B42B3B62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ADF30D-DFBC-4103-8906-653E65A3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AFB37-C82C-4754-A9EF-9A445A565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8EDCE3-884B-4F0F-A76D-4CD16FD72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EA35A7-F690-401B-ADB9-F0C9D56B9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B96334-3ED2-44B8-856A-36ABFD1F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E2165B-7EDE-4251-A7D6-965A3257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CC4CCC-559C-4869-A3B5-BCC202CD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FA00BB-8675-4786-872B-18F5AA0C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27A9-51FB-4A33-BBE9-8AC8295E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DECE14-E632-48D9-905C-092368FA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6AEA6D-54A4-4848-842A-7FF18E1B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CEF846-F06F-4ECA-8844-B7E694DE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4C92B5-600E-4CBF-8D71-A6EEF710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DBE383-07A4-4500-B2A9-32AE5BC5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707D2B-CB9B-4A91-9A66-DBB65CB6C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0690E9-7B17-4137-BA7C-4268F9068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23A63-3C83-4E61-90A2-8CE67BC01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FD25E-C57A-44DD-84A7-766EAA20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0DE70-2BDA-4FBA-AFD3-6F3B5208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C912-D7BE-4E55-8DFE-486B44CD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83188-F179-4AFE-B9DF-291788C1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18430-2039-4CA7-A1B1-ED0B9ADE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4ACDD-394C-4F21-98FB-3A47FD08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2AA82-5DC1-4CF7-87FB-024E1388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516F3-7A46-4104-A8A2-46DD5D80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A8667-AD08-4633-A8AC-954F6D23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C93E8-605C-47DE-B0BB-7D977D68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2E990-4E21-4E8E-A856-3B0B7B862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D4192-14F2-4A06-BBC3-C2D9C6849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0794-66B3-4820-9933-89A600AC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9C83-46F2-44CC-B37C-AA610B76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9AB0-E4CB-4009-9BD4-10A74D18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DE33-A8D3-4629-98BB-81E17DC6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ABBB-B60B-4F63-AEEE-3FD42057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70EE-BBFD-49EC-BC8C-C20D1FAD4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1AB5-D57D-4F84-89A4-E8F3277D6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FF15-AFAA-41B9-BC1D-D2BBD1D5BBC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C2AA-258D-4D19-A10C-B6F669E7939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La casa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r: Isabella Aij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s una mans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a mans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 una grande y magnifico mans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57200" y="2994120"/>
            <a:ext cx="5105520" cy="3397320"/>
          </a:xfrm>
          <a:prstGeom prst="rect">
            <a:avLst/>
          </a:prstGeom>
          <a:ln w="0">
            <a:noFill/>
          </a:ln>
        </p:spPr>
      </p:pic>
    </p:spTree>
  </p:cSld>
  <p:transition advTm="14000">
    <p:newsflash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s un cocina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cocina. Es un  pequeña y modern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52280" y="2438280"/>
            <a:ext cx="3314880" cy="44197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3200400" y="3086280"/>
            <a:ext cx="5029200" cy="3771720"/>
          </a:xfrm>
          <a:prstGeom prst="rect">
            <a:avLst/>
          </a:prstGeom>
          <a:ln w="0">
            <a:noFill/>
          </a:ln>
        </p:spPr>
      </p:pic>
    </p:spTree>
  </p:cSld>
  <p:transition advTm="10000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s una sal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a sala. Es un grande y nuev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ransition advTm="10000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s un comedor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743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comedo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 la  comedor son once ventan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3200400" y="19051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s un bañ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baño. Es un gran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7238880" y="3581280"/>
            <a:ext cx="1463760" cy="24386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2514600" y="2514600"/>
            <a:ext cx="4762440" cy="35528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patio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2057400" y="1981080"/>
            <a:ext cx="6248520" cy="46864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36440" y="1936800"/>
            <a:ext cx="1844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3:17:44Z</dcterms:created>
  <dc:creator>aijoisa</dc:creator>
  <dc:description/>
  <dc:language>en-US</dc:language>
  <cp:lastModifiedBy>aijoisa</cp:lastModifiedBy>
  <dcterms:modified xsi:type="dcterms:W3CDTF">2013-04-04T17:30:24Z</dcterms:modified>
  <cp:revision>9</cp:revision>
  <dc:subject/>
  <dc:title>La casa</dc:title>
</cp:coreProperties>
</file>